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12588-D921-4DC0-98E6-C662CC50D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5812-09F1-4606-B776-02840F61D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0215E-C1D9-4AB1-BC87-9ADA49EDE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41926-8E45-46D1-B336-9D7FD28FA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55C7F-BDB4-42F4-BB0E-15D3B8CA8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B64C8-9761-4F5C-97A1-57483F7D2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8567E-095B-4313-B1FD-E46EE2C0D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D7478-3288-4BF4-AD37-D6FF2D16A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75BC3-15AB-4212-8E17-24DCD23D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678CB-6B45-4FFE-9617-4DB86FDDF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746F-9DB6-417F-B141-21917F81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B36A8-578B-4931-8808-3A56DCCE0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CB42-560C-4380-AE41-CF2EDD8302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ccff"/>
                </a:solidFill>
                <a:latin typeface="Copperplate Gothic Bold"/>
              </a:rPr>
              <a:t>Lotus Temple</a:t>
            </a:r>
            <a:br>
              <a:rPr sz="48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delhi-tourism.jpg (500×375)"/>
          <p:cNvPicPr/>
          <p:nvPr/>
        </p:nvPicPr>
        <p:blipFill>
          <a:blip r:embed="rId1"/>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Bahai Temple or the Lotus Temple is an exquisite example of unison of the biggest religion of mankind- Humanity. All the roads of religion lead to one great Almighty. God is one- Perception of this echoes in this abode of peace. The Bahai community aspires to bind and unify the entire human race. The beautiful architecture of this Temple of Peace inspires the growth of Spiritual Self. "Intellectual cohesion and Spiritual magnification lead to devotional edification." Bahai faith came into existence in 1963. The Bah?'?s pray to the one true God, the Creator of the universe. The act of praying is described as ‘a conversation with God’. It is obligatory for every Bah?'? to pray and meditate on the Words of God every day. </a:t>
            </a:r>
            <a:br>
              <a:rPr sz="2400"/>
            </a:br>
            <a:br>
              <a:rPr sz="800"/>
            </a:br>
            <a:r>
              <a:rPr b="1" i="1" lang="en-US" sz="800" spc="-1" strike="noStrike">
                <a:solidFill>
                  <a:srgbClr val="000000"/>
                </a:solidFill>
                <a:latin typeface="Comic Sans MS"/>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Wonder Architecture This architectural spectacle has been designed by Mr. Fariborz Sahba. The outside structure of the house of worship is constructed into three ranks of nine petals. The structure of the House of Worship is composed of three ranks of nine petals each springing from a podium which elevates the building above the surrounding plain. The first two ranks curve inward, embracing the inner dome; the third layer curves outward to form canopies over the nine entrances. The petals, constructed of reinforced white concrete cast in place, are clad in white marble panels, performed to surface profiles and patterns related to the geometry. The double-layered interior dome, modelled on the innermost portion of the lotus, is comprised of 54 ribs with concrete shells between. Nine arches that provide the main support for the superstructure ring the central hall. Nine reflecting pools surround the building on the outside, their form suggesting the green leaves of the lotus flower. </a:t>
            </a:r>
            <a:br>
              <a:rPr sz="2000"/>
            </a:br>
            <a:br>
              <a:rPr sz="2000"/>
            </a:b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eachings of Bahai Faith</a:t>
            </a:r>
            <a:br>
              <a:rPr sz="2200"/>
            </a:br>
            <a:r>
              <a:rPr b="0" lang="en-US" sz="2200" spc="-1" strike="noStrike">
                <a:solidFill>
                  <a:srgbClr val="000000"/>
                </a:solidFill>
                <a:latin typeface="Comic Sans MS"/>
              </a:rPr>
              <a:t>The Bahá'ís believe in the oneness of mankind, oneness of God and oneness of religion. Their lives are centered around these three cardinal principles. Wherever they live they try to create harmony and peace.</a:t>
            </a:r>
            <a:br>
              <a:rPr sz="2200"/>
            </a:br>
            <a:r>
              <a:rPr b="0" lang="en-US" sz="2200" spc="-1" strike="noStrike">
                <a:solidFill>
                  <a:srgbClr val="000000"/>
                </a:solidFill>
                <a:latin typeface="Comic Sans MS"/>
              </a:rPr>
              <a:t>The Bahá'ís work for the removal of prejudices based on caste, creed, religion, sex, colour, race and language. The Bahá’í teachings state this can be achieved through universal education and the inculcation of a scientific outlook.</a:t>
            </a:r>
            <a:br>
              <a:rPr sz="2200"/>
            </a:br>
            <a:r>
              <a:rPr b="0" lang="en-US" sz="2200" spc="-1" strike="noStrike">
                <a:solidFill>
                  <a:srgbClr val="000000"/>
                </a:solidFill>
                <a:latin typeface="Comic Sans MS"/>
              </a:rPr>
              <a:t>An independent investigation is essential to arrive at truth. True religion conforms to reason. The Bahá'ís are free from superstitions, outdated ceremonies, rituals and dogmas. </a:t>
            </a:r>
            <a:br>
              <a:rPr sz="2200"/>
            </a:br>
            <a:r>
              <a:rPr b="0" lang="en-US" sz="2200" spc="-1" strike="noStrike">
                <a:solidFill>
                  <a:srgbClr val="000000"/>
                </a:solidFill>
                <a:latin typeface="Comic Sans MS"/>
              </a:rPr>
              <a:t>"The divine Prophets came to establish the unity of the Kingdom in human hearts. All of them proclaimed the glad tidings of the divine bestowals to the world of mankind." </a:t>
            </a:r>
            <a:br>
              <a:rPr sz="2200"/>
            </a:br>
            <a:r>
              <a:rPr b="0" lang="en-US" sz="2200" spc="-1" strike="noStrike">
                <a:solidFill>
                  <a:srgbClr val="000000"/>
                </a:solidFill>
                <a:latin typeface="Comic Sans MS"/>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Visiting Hours</a:t>
            </a:r>
            <a:r>
              <a:rPr b="0" lang="en-US" sz="3200" spc="-1" strike="noStrike">
                <a:solidFill>
                  <a:srgbClr val="000000"/>
                </a:solidFill>
                <a:latin typeface="Comic Sans MS"/>
              </a:rPr>
              <a:t> </a:t>
            </a:r>
            <a:br>
              <a:rPr sz="3200"/>
            </a:br>
            <a:r>
              <a:rPr b="0" lang="en-US" sz="3200" spc="-1" strike="noStrike">
                <a:solidFill>
                  <a:srgbClr val="000000"/>
                </a:solidFill>
                <a:latin typeface="Comic Sans MS"/>
              </a:rPr>
              <a:t>Bahai Temple is closed on Mondays. </a:t>
            </a:r>
            <a:br>
              <a:rPr sz="3200"/>
            </a:br>
            <a:r>
              <a:rPr b="0" lang="en-US" sz="3200" spc="-1" strike="noStrike">
                <a:solidFill>
                  <a:srgbClr val="000000"/>
                </a:solidFill>
                <a:latin typeface="Comic Sans MS"/>
              </a:rPr>
              <a:t>Summer (1 April - 30 September) -&gt; 9:00 a.m. to 7:00 p.m. </a:t>
            </a:r>
            <a:br>
              <a:rPr sz="3200"/>
            </a:br>
            <a:r>
              <a:rPr b="0" lang="en-US" sz="3200" spc="-1" strike="noStrike">
                <a:solidFill>
                  <a:srgbClr val="000000"/>
                </a:solidFill>
                <a:latin typeface="Comic Sans MS"/>
              </a:rPr>
              <a:t>Winter (1 October - 31 March) -&gt; 9:30 a.m. to 5:30 p.m. </a:t>
            </a:r>
            <a:br>
              <a:rPr sz="3200"/>
            </a:br>
            <a:br>
              <a:rPr sz="3200"/>
            </a:b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Lotus Temple ( Bahai Faith ) and United Nations</a:t>
            </a:r>
            <a:br>
              <a:rPr sz="2200"/>
            </a:br>
            <a:r>
              <a:rPr b="0" lang="en-US" sz="2200" spc="-1" strike="noStrike">
                <a:solidFill>
                  <a:srgbClr val="000000"/>
                </a:solidFill>
                <a:latin typeface="Comic Sans MS"/>
              </a:rPr>
              <a:t>The Bahá'í Faith has accredited representation with the United Nations Headquarters in New York. The Bahá'í International Community has been recognised as an international Non Governmental Organisation since 1948. The Community seeks to promote the goals of the United Nations’ Charter such as peace, economic and social advancement of all peoples, and the promotion of universal human rights. Bah?'? Faith has accredited representation with the United Nations Headquarters in New York. The Bah?'? International Community has been recognised as an international Non Governmental Organisation since 1948. The Community seeks to promote the goals of the United Nations’ Charter such as peace, economic and social advancement of all peoples, and the promotion of universal human rights. In 1970, the Bahá'í International Community was given consultative status with the Social and Economic Council</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1:54:52Z</dcterms:created>
  <dc:creator>pc</dc:creator>
  <dc:description/>
  <dc:language>en-US</dc:language>
  <cp:lastModifiedBy>pc</cp:lastModifiedBy>
  <dcterms:modified xsi:type="dcterms:W3CDTF">2010-07-16T11:59:04Z</dcterms:modified>
  <cp:revision>2</cp:revision>
  <dc:subject/>
  <dc:title>Lotus Temple </dc:title>
</cp:coreProperties>
</file>